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media/image1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B45B4D-D088-4232-A4E2-3858E38846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EA4EAD-3BFA-4052-BA15-63C4FC282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5A5C7B-723F-4E9E-BEB0-0BDAF39F63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737DA1-274D-467A-8777-10B3248BD6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B64B97-5CE2-432C-A2CD-7C2F24912C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425DB-B2E9-4E82-82ED-1CAA14CA9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F2FD0-BEEC-46F2-95AD-039F20CD1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52B25-ACB1-441B-90D0-2DF31E3A4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5CD2C-0E67-42F5-B23D-473984791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D3505-A9AE-4ECB-8D1E-0E6106650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8AA86-9C73-463A-AB75-04D80D718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E4E8F6-2C16-4FD9-9759-C9227C622C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5019C-A572-4605-BECF-6548DD1AE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608A1-A7E9-4B87-AD7C-3CE0ECBFC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D2B58-47B9-4EE1-AD30-50BE5DBCC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42556-1643-4A2D-904D-5DCA0AC65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2A664-1461-49B8-B2C2-E15B5DA94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3474C1-BB1A-435E-AB78-22CECCF139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0E991C-54FD-4E01-92E2-6F7F04EAAA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06E2F5-878E-4FA6-8659-0285E1F9A1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D1D1DA-DBB8-448B-9C9E-33DA3E1229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3A8463-649A-497D-AA8C-AD3A23B09C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463630-3B6F-436E-BB5E-3800A3AFC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1EA7DC-EE1F-4224-A4A9-9B962099E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5F2B15-FD34-49BC-9925-7C8B1ECBF0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BDDAD8-A07F-4CE1-8529-5E557BC848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548D6A-75FB-4021-A77A-08BD6F08A9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922B01-3447-4F03-9ECF-7287D423BD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E1C929-A819-4121-8154-C2FD9756CB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EB5C9A-822A-4245-A424-C92928CFB4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ABA81C-1E92-4105-83CD-83A5C28240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D59192-E72B-4375-AA86-B5E3032B67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412809-4E5C-4094-A674-FDF35668DD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3ED5D5-5171-49E1-A478-2370640B0C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FC3622-EBFD-419A-BD55-C7BF4C9AD3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98D5AA-1065-4A6E-8957-47F0448D10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73EBF0-AD8A-4850-A8E3-429D4BD51D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EBD60A-4035-42DB-9F1D-9953A80790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9F9EA9-B920-4C69-A386-F31D2D2E80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6B6117-88E9-468D-B44E-71AAEE0F1C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EDAC0B-A7CB-40D8-A374-97FEB5FF0B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CBA612-939D-4BEE-9E10-B1C8CB61C4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36D2B1-FAE9-47F3-8A50-A107D1DB1F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44AA2B-CDEF-4B60-BEE1-EA51DEC72B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DC04B7-5835-48AC-AAF3-EAB9030AC2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51696D-6C43-4748-821B-8D8AC4CE50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FDC17A-1C1F-40D3-A58A-A8F28B8DB2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1092CF-2F92-4B73-8415-A841A8D4E71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F0EBD-DC10-48D9-9012-D40639AB89F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66091-5A35-45AC-846C-B093B5DB226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92" name="Group 2"/>
          <p:cNvGrpSpPr/>
          <p:nvPr/>
        </p:nvGrpSpPr>
        <p:grpSpPr>
          <a:xfrm>
            <a:off x="0" y="0"/>
            <a:ext cx="9144000" cy="6858000"/>
            <a:chOff x="0" y="0"/>
            <a:chExt cx="9144000" cy="6858000"/>
          </a:xfrm>
        </p:grpSpPr>
        <p:sp>
          <p:nvSpPr>
            <p:cNvPr id="9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5" name="Group 5"/>
            <p:cNvGrpSpPr/>
            <p:nvPr/>
          </p:nvGrpSpPr>
          <p:grpSpPr>
            <a:xfrm>
              <a:off x="0" y="1066680"/>
              <a:ext cx="2867040" cy="3157560"/>
              <a:chOff x="0" y="1066680"/>
              <a:chExt cx="2867040" cy="3157560"/>
            </a:xfrm>
          </p:grpSpPr>
          <p:sp>
            <p:nvSpPr>
              <p:cNvPr id="9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D02D8-6A8E-4C40-B2C8-DA86A619291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147" name="Group 2"/>
          <p:cNvGrpSpPr/>
          <p:nvPr/>
        </p:nvGrpSpPr>
        <p:grpSpPr>
          <a:xfrm>
            <a:off x="0" y="0"/>
            <a:ext cx="9144000" cy="6858000"/>
            <a:chOff x="0" y="0"/>
            <a:chExt cx="9144000" cy="6858000"/>
          </a:xfrm>
        </p:grpSpPr>
        <p:sp>
          <p:nvSpPr>
            <p:cNvPr id="148"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50" name="Group 5"/>
            <p:cNvGrpSpPr/>
            <p:nvPr/>
          </p:nvGrpSpPr>
          <p:grpSpPr>
            <a:xfrm>
              <a:off x="0" y="1066680"/>
              <a:ext cx="2867040" cy="3157560"/>
              <a:chOff x="0" y="1066680"/>
              <a:chExt cx="2867040" cy="3157560"/>
            </a:xfrm>
          </p:grpSpPr>
          <p:sp>
            <p:nvSpPr>
              <p:cNvPr id="151"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47770-2838-495F-8277-37CEC25042C0}"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203" name="PlaceHolder 2"/>
          <p:cNvSpPr>
            <a:spLocks noGrp="1"/>
          </p:cNvSpPr>
          <p:nvPr>
            <p:ph type="subTitle"/>
          </p:nvPr>
        </p:nvSpPr>
        <p:spPr>
          <a:xfrm>
            <a:off x="1714320" y="4785840"/>
            <a:ext cx="5903640" cy="8636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РХИТЕКТУРА МИКРОКОНТРОЛЛЕРА 8051 </a:t>
            </a:r>
            <a:endParaRPr b="0" lang="en-US" sz="2400" spc="-1" strike="noStrike">
              <a:solidFill>
                <a:srgbClr val="000000"/>
              </a:solidFill>
              <a:latin typeface="Arial"/>
            </a:endParaRPr>
          </a:p>
        </p:txBody>
      </p:sp>
      <p:pic>
        <p:nvPicPr>
          <p:cNvPr id="204" name="Picture 6" descr="D:\vvsu.gif"/>
          <p:cNvPicPr/>
          <p:nvPr/>
        </p:nvPicPr>
        <p:blipFill>
          <a:blip r:embed="rId1"/>
          <a:stretch/>
        </p:blipFill>
        <p:spPr>
          <a:xfrm>
            <a:off x="228600" y="228600"/>
            <a:ext cx="838080" cy="372960"/>
          </a:xfrm>
          <a:prstGeom prst="rect">
            <a:avLst/>
          </a:prstGeom>
          <a:ln w="0">
            <a:noFill/>
          </a:ln>
        </p:spPr>
      </p:pic>
      <p:sp>
        <p:nvSpPr>
          <p:cNvPr id="205"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549360"/>
            <a:ext cx="8229600" cy="5904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Аккумулятор, регистры общего назначения и флаг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Аккумулятор (A) является источником операнда и местом фиксации результата при выполнении арифметических, логических операций и ряда операций передачи данных. Кроме того, только с использованием аккумулятора могут быть выполнены операции сдвигов, проверка на нуль, формирование флага паритета и т.п. В распоряжении пользователя имеются 8 регистров общего назначения R0–R7 одного из четырёх возможных банков. При выполнении многих команд в ALU формируется ряд признаков операции (флагов), которые фиксируются в регистре PSW. В табл. 2 приводится перечень флагов PSW, даются их символические имена и описываются условия их формирования.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Object 11"/>
          <p:cNvGraphicFramePr/>
          <p:nvPr/>
        </p:nvGraphicFramePr>
        <p:xfrm>
          <a:off x="900000" y="907920"/>
          <a:ext cx="7489800" cy="5805720"/>
        </p:xfrm>
        <a:graphic>
          <a:graphicData uri="http://schemas.openxmlformats.org/presentationml/2006/ole">
            <p:oleObj progId="Excel.Sheet.12" r:id="rId1" spid="">
              <p:embed/>
              <p:pic>
                <p:nvPicPr>
                  <p:cNvPr id="221" name="Object 11" descr=""/>
                  <p:cNvPicPr/>
                  <p:nvPr/>
                </p:nvPicPr>
                <p:blipFill>
                  <a:blip r:embed="rId2"/>
                  <a:stretch/>
                </p:blipFill>
                <p:spPr>
                  <a:xfrm>
                    <a:off x="900000" y="907920"/>
                    <a:ext cx="7489800" cy="5805720"/>
                  </a:xfrm>
                  <a:prstGeom prst="rect">
                    <a:avLst/>
                  </a:prstGeom>
                  <a:ln w="0">
                    <a:noFill/>
                  </a:ln>
                </p:spPr>
              </p:pic>
            </p:oleObj>
          </a:graphicData>
        </a:graphic>
      </p:graphicFrame>
      <p:sp>
        <p:nvSpPr>
          <p:cNvPr id="222" name="Rectangle 12"/>
          <p:cNvSpPr/>
          <p:nvPr/>
        </p:nvSpPr>
        <p:spPr>
          <a:xfrm>
            <a:off x="1916280" y="549360"/>
            <a:ext cx="54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2.</a:t>
            </a:r>
            <a:r>
              <a:rPr b="0" lang="ru-RU" sz="1600" spc="-1" strike="noStrike">
                <a:solidFill>
                  <a:srgbClr val="000000"/>
                </a:solidFill>
                <a:latin typeface="Arial"/>
              </a:rPr>
              <a:t> Формат слова состояния программы - PSW.</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3" name="Object 6"/>
          <p:cNvGraphicFramePr/>
          <p:nvPr/>
        </p:nvGraphicFramePr>
        <p:xfrm>
          <a:off x="2124000" y="1197000"/>
          <a:ext cx="3895920" cy="1947960"/>
        </p:xfrm>
        <a:graphic>
          <a:graphicData uri="http://schemas.openxmlformats.org/presentationml/2006/ole">
            <p:oleObj progId="Excel.Sheet.12" r:id="rId1" spid="">
              <p:embed/>
              <p:pic>
                <p:nvPicPr>
                  <p:cNvPr id="224" name="Object 6" descr=""/>
                  <p:cNvPicPr/>
                  <p:nvPr/>
                </p:nvPicPr>
                <p:blipFill>
                  <a:blip r:embed="rId2"/>
                  <a:stretch/>
                </p:blipFill>
                <p:spPr>
                  <a:xfrm>
                    <a:off x="2124000" y="1197000"/>
                    <a:ext cx="3895920" cy="1947960"/>
                  </a:xfrm>
                  <a:prstGeom prst="rect">
                    <a:avLst/>
                  </a:prstGeom>
                  <a:ln w="0">
                    <a:noFill/>
                  </a:ln>
                </p:spPr>
              </p:pic>
            </p:oleObj>
          </a:graphicData>
        </a:graphic>
      </p:graphicFrame>
      <p:sp>
        <p:nvSpPr>
          <p:cNvPr id="225" name="Rectangle 7"/>
          <p:cNvSpPr/>
          <p:nvPr/>
        </p:nvSpPr>
        <p:spPr>
          <a:xfrm>
            <a:off x="977760" y="691920"/>
            <a:ext cx="44100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3 Выбор рабочего банка регистров </a:t>
            </a:r>
            <a:endParaRPr b="0" lang="en-US" sz="1600" spc="-1" strike="noStrike">
              <a:solidFill>
                <a:srgbClr val="000000"/>
              </a:solidFill>
              <a:latin typeface="Arial"/>
            </a:endParaRPr>
          </a:p>
        </p:txBody>
      </p:sp>
      <p:sp>
        <p:nvSpPr>
          <p:cNvPr id="226" name="Rectangle 13"/>
          <p:cNvSpPr/>
          <p:nvPr/>
        </p:nvSpPr>
        <p:spPr>
          <a:xfrm>
            <a:off x="249120" y="3510720"/>
            <a:ext cx="828360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иболее “активным” флагом PSW является флаг переноса, который принимает участие и модифицируется в процессе выполнения множества операций, включая сложение, вычитание и сдвиги. Кроме того, флаг переноса (C) выполняет функции “булева аккумулятора” в командах, манипулирующих с битами. Флаг переполнения (OV) фиксирует арифметическое переполнение при операциях над целыми числами со знаком и делает возможным использование арифметики в дополнительных кодах. ALU не управляет флагами селекции банка регистров (RS0, RS1), их значение полностью определяется прикладной программой и используется для выбора одного из четырёх регистровых банков. </a:t>
            </a:r>
            <a:endParaRPr b="0" lang="en-US" sz="16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611280" y="561600"/>
            <a:ext cx="813600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процессорах, архитектура которых опирается на аккумулятор, большинство команд работают с ним, используя неявную адресацию. В Intel 8051 дело обстоит иначе. Хотя процессор имеет в своей основе аккумулятор, он может выполнять множество команд и без его участия. Например, данные могут быть пере- даны из любой ячейки RDM в любой регистр, любой регистр может быть загружен непосредственным операндом и т.д. Многие логические операции могут быть выполнены без участия аккумулятора. Кроме того, переменные могут быть инкрементированы, декрементированы и проверены без использования аккумулятора. Флаги и управляющие биты могут быть проверены и изменены аналогичн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Регистры-указател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8-битный указатель стека (SP) может адресовать любую область RDM. Его содержимое инкрементируется прежде, чем данные будут запомнены в стеке в ходе выполнения команд PUSH и CALL. Содержимое SP декрементируется после выполнения команд POP и RET. Подобный способ адресации элементов стека называют прединкрементным/постдекрементным. В процессе инициализации микроконтроллера после сигнала RST в SP автоматически загружается код 07Н. Это значит, что если прикладная программа не переопределяет стек, то первый элемент данных в стеке будет располагаться в ячейке RDM с адресом 08Н. Двухбайтный регистр-указатель данных DPTR обычно используется для фиксации 16-битного адреса в операциях с обращением к внешней памяти. Командами микроконтроллера регистр-указатель данных может быть использован или как 16-битный регистр, или как два независимых 8-битных регистра (DPH и DPL). </a:t>
            </a:r>
            <a:endParaRPr b="0" lang="en-US" sz="16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Rectangle 3"/>
          <p:cNvSpPr/>
          <p:nvPr/>
        </p:nvSpPr>
        <p:spPr>
          <a:xfrm>
            <a:off x="684360" y="479160"/>
            <a:ext cx="777528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Регистры специальных функц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ы с символическими именами IP, IE, TMOD, TCON, SCON и PCON используются для фиксации и программного изменения управляющих бит и бит состояния схемы прерывания, таймера/счётчика, приёмопередатчика последовательного порта и для управления энергопотреблением. Их организация будет описана ниже при рассмотрении особенностей работы микроконтроллера в различных режима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Устройство управления и синхрониз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варцевый резонатор, подключаемый к внешним выводам микроконтроллера, управляет работой внутреннего генератора, который в свою очередь формирует сигналы синхронизации. Устройство управления (CU) на основе сигналов синхронизации формирует машинный цикл фиксированной длительности, равной 12 периодам резонатора. Большинство команд микроконтроллера выполняется за один машинный цикл. Некоторые команды, оперирующие с 2-байтными словами или связанные с обращением к внешней памяти, выполняются за два машинных цикла. Только команды деления и умножения требуют четырех машинных циклов. На ос нове этих особенностей работы устройства управления производится расчёт времени исполнения прикладных програм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схеме микроконтроллера к устройству управления примыкает регистр команд (IR). В его функцию входит хранение кода выполняемой коман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Rectangle 3"/>
          <p:cNvSpPr/>
          <p:nvPr/>
        </p:nvSpPr>
        <p:spPr>
          <a:xfrm>
            <a:off x="468360" y="714600"/>
            <a:ext cx="828180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Входные и выходные сигналы устройства управления и синхронизации:</a:t>
            </a: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PSEN – разрешение программной памят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ALE – выходной сигнал разрешения фиксации адре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PROG – сигнал программ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EA – блокировка работы с внутренней память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 </a:t>
            </a:r>
            <a:r>
              <a:rPr b="0" lang="ru-RU" sz="1600" spc="-1" strike="noStrike">
                <a:solidFill>
                  <a:srgbClr val="000000"/>
                </a:solidFill>
                <a:latin typeface="Arial"/>
              </a:rPr>
              <a:t>VPP – напряжение программ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RST – сигнал общего сбро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VPD – вывод резервного питания памяти от внешнего источник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XTAL – входы подключения кварцевого резонатор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Параллельные порты ввода/вывода информ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четыре порта (P0-P3) предназначены для ввода или вывода информации побайтно. Каждый порт содержит управляемые регистр-защёлку, входной буфер и выходной драйве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ходные драйверы портов 0 и 2, а также входной буфер порта 0 используются при обращении к внешней памяти. При этом через порт 0 в режиме временного мультиплексирования сначала выводится младший байт адреса, а затем выдается или принимается байт данных. Через порт 2 выводится старший байт адреса в тех случаях, когда разрядность адреса равна 16 бит. Все выводы порта 3 могут быть использованы для реализации альтернативных функций, перечисленных в табл. 4. Эти функции могут быть задействованы путем записи 1 в соответствующие биты регистра-защёлки (P3.0-P3.7) порта 3. </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Rectangle 3"/>
          <p:cNvSpPr/>
          <p:nvPr/>
        </p:nvSpPr>
        <p:spPr>
          <a:xfrm>
            <a:off x="826920" y="620280"/>
            <a:ext cx="5113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4. Альтернативные функции порта P3. </a:t>
            </a:r>
            <a:endParaRPr b="0" lang="en-US" sz="1600" spc="-1" strike="noStrike">
              <a:solidFill>
                <a:srgbClr val="000000"/>
              </a:solidFill>
              <a:latin typeface="Arial"/>
            </a:endParaRPr>
          </a:p>
        </p:txBody>
      </p:sp>
      <p:graphicFrame>
        <p:nvGraphicFramePr>
          <p:cNvPr id="234" name="Object 5"/>
          <p:cNvGraphicFramePr/>
          <p:nvPr/>
        </p:nvGraphicFramePr>
        <p:xfrm>
          <a:off x="1258920" y="1197000"/>
          <a:ext cx="5834160" cy="4968720"/>
        </p:xfrm>
        <a:graphic>
          <a:graphicData uri="http://schemas.openxmlformats.org/presentationml/2006/ole">
            <p:oleObj progId="Excel.Sheet.12" r:id="rId1" spid="">
              <p:embed/>
              <p:pic>
                <p:nvPicPr>
                  <p:cNvPr id="235" name="Object 5" descr=""/>
                  <p:cNvPicPr/>
                  <p:nvPr/>
                </p:nvPicPr>
                <p:blipFill>
                  <a:blip r:embed="rId2"/>
                  <a:stretch/>
                </p:blipFill>
                <p:spPr>
                  <a:xfrm>
                    <a:off x="1258920" y="1197000"/>
                    <a:ext cx="5834160" cy="4968720"/>
                  </a:xfrm>
                  <a:prstGeom prst="rect">
                    <a:avLst/>
                  </a:prstGeom>
                  <a:ln w="0">
                    <a:noFill/>
                  </a:ln>
                </p:spPr>
              </p:pic>
            </p:oleObj>
          </a:graphicData>
        </a:graphic>
      </p:graphicFrame>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50560" y="476280"/>
            <a:ext cx="8713800" cy="6121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орт 0 является двунаправленным, а порты 1-3 - квазидвунаправленными. Каждая линия портов может быть использована независимо для ввода или вывода. По сигналу RST в регистры-защёлки всех портов автоматически записываются единицы, настраивающие их тем самым на режим ввода. Все порты могут быть использованы для организации ввода/вывода информации по двунаправленным линиям передачи. Однако порты 0 и 2 не могут быть использованы для этой цели в случае, если система имеет внешнюю память, связь с которой организуется через общую разделяемую шину адреса/данных, работающую в режиме временного мультиплексирования. Обращение к портам ввода/вывода возможно с использованием команд, оперирующих с байтом, отдельным битом, произвольной комбинацией битов. При этом в тех случаях, когда порт является одновременно операндом и местом назначения результата, устройство управления автоматически реализует специальный режим, который называется “чтение-модификация-запись”. Этот режим обращения предполагает ввод сигналов не с внешних выводов порта, а из его регистразащёлки, что позволяет исключить неправильное считывание ранее выведенной информации. Этот механизм обращения к портам реализован в командах: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ANL – логическое И, например, ANL P1,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ORL – логическое ИЛИ, например, ORL P2,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XRL – исключающее ИЛИ, например, XRL Р3,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JBC – переход, если в адресуемом бите единица, и последующий сброс бита,например, JBC P1.1, LABE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CPL – инверсия бита, например, CPL Р3.3;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INC – инкремент порта, например, INC P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DEC – декремент порта, например, DEC P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DJNZ – декремент порта и переход, если его содержимое не равно нулю,например, DJNZ r, </a:t>
            </a:r>
            <a:r>
              <a:rPr b="0" lang="en-US" sz="1400" spc="-1" strike="noStrike">
                <a:solidFill>
                  <a:srgbClr val="000000"/>
                </a:solidFill>
                <a:latin typeface="Arial"/>
              </a:rPr>
              <a:t>L</a:t>
            </a:r>
            <a:r>
              <a:rPr b="0" lang="ru-RU" sz="1400" spc="-1" strike="noStrike">
                <a:solidFill>
                  <a:srgbClr val="000000"/>
                </a:solidFill>
                <a:latin typeface="Arial"/>
              </a:rPr>
              <a:t>ABE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MOV PX.Y,C – передача бита переноса в бит Y порта X;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SET PX.Y – установка бита Y порта X; • CLR PX.Y – сброс бита Y порта X. </a:t>
            </a:r>
            <a:endParaRPr b="0" lang="en-US" sz="14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68360" y="836280"/>
            <a:ext cx="8229600" cy="4537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Таймер/счётчик.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В составе микроконтроллера имеются регистровые пары с символическими именами TH0, TL0 и TH1, TL1, на основе которых функционируют два независимых программно-управляемых 16-битных таймера/счётчика событий (T/C0 и T/C1). При работе в качестве таймера содержимое T/C инкрементируется в каждом машинном цикле, то есть через каждые 12 периодов резонатора. При работе в качестве счётчика содержимое T/C инкрементируется под воздействием перехода из 1 в 0 внешнего входного сигнала, подаваемого на соответствующий (T0, T1) вход микроконтроллера. Опрос сигналов выполняется в каждом машинном цикле. Так как на распознавание перехода требуется два машинных цикла, то максимальная частота подсчёта входных сигналов равна 1/24 частоты резонатора. На длительность периода входных сигналов ограничений сверху нет. Для гарантированного прочтения входного считываемого сигнала он должен удерживать значение 1 как минимум в течение одного машинного цикл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Для управления режимами работы и для организации взаимодействия таймеров с системой прерывания используются два регистра специальных функций TMOD и TCON, описание которых приводится в табл. 5-7. Для обоих T/C режимы работы 0, 1 и 2 одинаковы. Режимы 3 для T/C0 и T/C1 различны.  </a:t>
            </a:r>
            <a:endParaRPr b="0" lang="en-US" sz="16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1980720"/>
            <a:ext cx="403848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239" name="Object 4"/>
          <p:cNvGraphicFramePr/>
          <p:nvPr/>
        </p:nvGraphicFramePr>
        <p:xfrm>
          <a:off x="395280" y="1197000"/>
          <a:ext cx="8209080" cy="5305320"/>
        </p:xfrm>
        <a:graphic>
          <a:graphicData uri="http://schemas.openxmlformats.org/presentationml/2006/ole">
            <p:oleObj progId="Excel.Sheet.12" r:id="rId1" spid="">
              <p:embed/>
              <p:pic>
                <p:nvPicPr>
                  <p:cNvPr id="240" name="Object 4" descr=""/>
                  <p:cNvPicPr/>
                  <p:nvPr/>
                </p:nvPicPr>
                <p:blipFill>
                  <a:blip r:embed="rId2"/>
                  <a:stretch/>
                </p:blipFill>
                <p:spPr>
                  <a:xfrm>
                    <a:off x="395280" y="1197000"/>
                    <a:ext cx="8209080" cy="5305320"/>
                  </a:xfrm>
                  <a:prstGeom prst="rect">
                    <a:avLst/>
                  </a:prstGeom>
                  <a:ln w="0">
                    <a:noFill/>
                  </a:ln>
                </p:spPr>
              </p:pic>
            </p:oleObj>
          </a:graphicData>
        </a:graphic>
      </p:graphicFrame>
      <p:sp>
        <p:nvSpPr>
          <p:cNvPr id="241" name="Rectangle 7"/>
          <p:cNvSpPr/>
          <p:nvPr/>
        </p:nvSpPr>
        <p:spPr>
          <a:xfrm>
            <a:off x="1271520" y="620280"/>
            <a:ext cx="54597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5.  Регистр режима работы таймера/счётчика.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кроконтроллер 8051</a:t>
            </a:r>
            <a:endParaRPr b="0" lang="en-US" sz="2000" spc="-1" strike="noStrike">
              <a:solidFill>
                <a:srgbClr val="000000"/>
              </a:solidFill>
              <a:latin typeface="Arial"/>
            </a:endParaRPr>
          </a:p>
        </p:txBody>
      </p:sp>
      <p:pic>
        <p:nvPicPr>
          <p:cNvPr id="207" name="Picture 13" descr="8051_цоколевка"/>
          <p:cNvPicPr/>
          <p:nvPr/>
        </p:nvPicPr>
        <p:blipFill>
          <a:blip r:embed="rId1"/>
          <a:stretch/>
        </p:blipFill>
        <p:spPr>
          <a:xfrm>
            <a:off x="239760" y="1341360"/>
            <a:ext cx="3774960" cy="4359240"/>
          </a:xfrm>
          <a:prstGeom prst="rect">
            <a:avLst/>
          </a:prstGeom>
          <a:ln w="0">
            <a:noFill/>
          </a:ln>
        </p:spPr>
      </p:pic>
      <p:sp>
        <p:nvSpPr>
          <p:cNvPr id="208" name="PlaceHolder 2"/>
          <p:cNvSpPr>
            <a:spLocks noGrp="1"/>
          </p:cNvSpPr>
          <p:nvPr>
            <p:ph/>
          </p:nvPr>
        </p:nvSpPr>
        <p:spPr>
          <a:xfrm>
            <a:off x="4140000" y="1413000"/>
            <a:ext cx="4825800" cy="396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контроллер выполнен на основе высокоуровневой n-МОП технологии. Через четыре программируемых параллельных порта ввода/вывода и один последовательный порт микроконтроллер взаимодействует с внешними устройствами. Основу структурной схемы (рис. 1) образует внутренняя двунаправленная 8-битная шина, которая связывает между собой основные узлы и устройства микроконтроллера: резидентную память программ (RPM), резидентную память данных (RDM), арифметико-логическое устройство (ALU), блок регистров специальных функций, устройство управления (CU) и порт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вода/вывода (P0-P3). </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2" name="Object 4"/>
          <p:cNvGraphicFramePr/>
          <p:nvPr/>
        </p:nvGraphicFramePr>
        <p:xfrm>
          <a:off x="971640" y="1197000"/>
          <a:ext cx="6121440" cy="4308480"/>
        </p:xfrm>
        <a:graphic>
          <a:graphicData uri="http://schemas.openxmlformats.org/presentationml/2006/ole">
            <p:oleObj progId="Excel.Sheet.12" r:id="rId1" spid="">
              <p:embed/>
              <p:pic>
                <p:nvPicPr>
                  <p:cNvPr id="243" name="Object 4" descr=""/>
                  <p:cNvPicPr/>
                  <p:nvPr/>
                </p:nvPicPr>
                <p:blipFill>
                  <a:blip r:embed="rId2"/>
                  <a:stretch/>
                </p:blipFill>
                <p:spPr>
                  <a:xfrm>
                    <a:off x="971640" y="1197000"/>
                    <a:ext cx="6121440" cy="4308480"/>
                  </a:xfrm>
                  <a:prstGeom prst="rect">
                    <a:avLst/>
                  </a:prstGeom>
                  <a:ln w="0">
                    <a:noFill/>
                  </a:ln>
                </p:spPr>
              </p:pic>
            </p:oleObj>
          </a:graphicData>
        </a:graphic>
      </p:graphicFrame>
      <p:sp>
        <p:nvSpPr>
          <p:cNvPr id="244" name="Rectangle 6"/>
          <p:cNvSpPr/>
          <p:nvPr/>
        </p:nvSpPr>
        <p:spPr>
          <a:xfrm>
            <a:off x="1487160" y="691920"/>
            <a:ext cx="4659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6. Режимы работы таймера/счётчика. </a:t>
            </a:r>
            <a:endParaRPr b="0" lang="en-US" sz="16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
          <p:cNvSpPr/>
          <p:nvPr/>
        </p:nvSpPr>
        <p:spPr>
          <a:xfrm>
            <a:off x="1843920" y="475920"/>
            <a:ext cx="49813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7.  Регистр управления/статуса таймера. </a:t>
            </a:r>
            <a:endParaRPr b="0" lang="en-US" sz="1600" spc="-1" strike="noStrike">
              <a:solidFill>
                <a:srgbClr val="000000"/>
              </a:solidFill>
              <a:latin typeface="Arial"/>
            </a:endParaRPr>
          </a:p>
        </p:txBody>
      </p:sp>
      <p:graphicFrame>
        <p:nvGraphicFramePr>
          <p:cNvPr id="246" name="Object 12"/>
          <p:cNvGraphicFramePr/>
          <p:nvPr/>
        </p:nvGraphicFramePr>
        <p:xfrm>
          <a:off x="611280" y="907920"/>
          <a:ext cx="7993080" cy="5588280"/>
        </p:xfrm>
        <a:graphic>
          <a:graphicData uri="http://schemas.openxmlformats.org/presentationml/2006/ole">
            <p:oleObj progId="Excel.Sheet.12" r:id="rId1" spid="">
              <p:embed/>
              <p:pic>
                <p:nvPicPr>
                  <p:cNvPr id="247" name="Object 12" descr=""/>
                  <p:cNvPicPr/>
                  <p:nvPr/>
                </p:nvPicPr>
                <p:blipFill>
                  <a:blip r:embed="rId2"/>
                  <a:stretch/>
                </p:blipFill>
                <p:spPr>
                  <a:xfrm>
                    <a:off x="611280" y="907920"/>
                    <a:ext cx="7993080" cy="5588280"/>
                  </a:xfrm>
                  <a:prstGeom prst="rect">
                    <a:avLst/>
                  </a:prstGeom>
                  <a:ln w="0">
                    <a:noFill/>
                  </a:ln>
                </p:spPr>
              </p:pic>
            </p:oleObj>
          </a:graphicData>
        </a:graphic>
      </p:graphicFrame>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95280" y="404280"/>
            <a:ext cx="8229600" cy="6193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жим 0. Перевод любого T/C в этот режим делает его 8-разрядным таймером, на вход которого подключен 5-битный делитель частоты на 32. В этом режиме таймерный регистр имеет разрядность 13 бит. При переходе из состояния “все единицы” в состояние “все нули” устанавливается флаг прерывания от таймера TF1. Входной синхросигнал таймера 1 разрешен (поступает на вход T/C), когда управляющий бит TR1 установлен в 1 и либо управляющий бит GATE (блокировка) равен 0, либо на внешний вход запроса прерывания INT1 поступает уровень 1. Установка бита GATE в 1 позволяет использовать таймер для измерения длительности импульсного сигнала, подаваемого на вход запроса прерыва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жим 1. Работа любого T/C в этом режиме такая же, как и в режиме 0, за исключением того, что таймерный регистр имеет разрядность 16 бит.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жим 2. В этом режиме работа организована таким образом, что переполнение (переход из состояния “все единицы” в состояние “все нули”) 8-битного счётчика TL1 приводит не только к установке флага TF1, но и автоматически перезагружает в TL1 содержимое старшего байта (TH1) таймерного регистра, которое предварительно было задано программным путем. Перезагрузка оставляет содержимое TH1 неизменным. В режиме 2 T/C0 и T/C1 работают совершенно одинаково.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жим 3. В этом режиме T/C0 и T/C1 работают по-разному. T/C1 сохраняет неизменным своё текущее содержимое. Иными словами, эффект такой же, как и при сбросе управляющего бита TR1 в нуль. В этом режиме TL0 и TH0 функционируют как два независимых 8-битных счётчика. Работу TL0 определяют управляющие биты T/C0 (C/T, GATE, TR0), входной сигнал INT0 и флаг переполнения TF0. Работу TH0, который может выполнять только функции таймера (подсчёт машинных циклов микроконтроллера), определяет управляющий бит TR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68360" y="549360"/>
            <a:ext cx="8229600" cy="5688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этом TH0 использует флаг переполнения TF1. Режим 3 используется в тех случаях, когда требуется наличие дополнительного 8-битного таймера или счётчика событий. Можно считать, что в режиме 3 микроконтроллер имеет в своем составе три таймера/счётчика. В том случае, если T/C0 используется в режиме 3, T/C1 может быть или включен, или выключен, или переведен в свой собственный режим 3, или может быть использован последовательным портом в качестве генератора частоты передачи, или, наконец, может быть использован в любом применении, не требующем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довательный порт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рез универсальный асинхронный приёмопередатчик UART (Universal Asynchronous Receiver-Transmitter) происходит передача информации, представленной последовательным кодом (младшими битами вперед), в полном дуплексном режиме обмена. В состав UART, называемого часто последовательным портом, входят принимающий и передающий сдвигающие регистры, а также специальный буферный регистр (SBUF) приёмопередатчик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 SBUF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ставляет собой два независимых регистра: буфер приёмника и буфер передатчика. Загрузка байта в SBUF немедленно вызывает начало процесса передачи через последовательный порт. Когда байт считывается из SBUF, это значит, что его источником является приёмник последовательного порта. Запись байта в буфер приводит к автоматической переписи байта в сдвигающий регистр передатчика и инициирует начало передачи байта. Наличие буферного регистра приёмника позволяет совмещать операцию чтения ранее принятого байта с приёмом очередного байта. Если к моменту окончания приёма байта предыдущий байт не был считан, то он будет потерян.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68360" y="765000"/>
            <a:ext cx="8229600" cy="4104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довательный порт может работать в четырех различных режимах. Режим 0. Информация передаётся и принимается через вход приёмника RXD. Принимаются и передаются 8 бит данных. Через внешний выход передатчика TXD выдаются импульсы сдвига, которые сопровождают каждый бит. Частота передачи равна 1/12 частоты резонатора. Режим 1. Через TXD передаются или из RXD принимаются 10 бит: старт-бит (0), 8 бит данных и стоп-бит (1). Скорость приёма/передачи – величина переменная и задаётся таймером. Режим 2. Через TXD передаются или из RXD принимаются 11 бит: старт-бит, 8 бит данных, программируемый девятый бит и стоп-бит. При передаче девя- тый бит может использоваться для повышения достоверности передачи путём контроля по чётности и в него можно поместить значение признака паритета из PSW. Частота приёма/передачи выбирается программно и может быть равна 1/32 или 1/64 частоты резонатора в зависимости от SMOD. Режим 3. Совпадает с режимом 2, но частота приёма/передачи является величиной переменной и задаётся таймером. 3.9.2. Регистр SCON Регистр предназначен для управления режимом работы UART. Регистр содержит управляющие биты и девятый бит принимаемых или передаваемых данных RB8 и TB8, а также биты прерывания приёмопередатчика RI и TI. Функциональное назначение битов указано в табл. 8 и 9. </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Object 4"/>
          <p:cNvGraphicFramePr/>
          <p:nvPr/>
        </p:nvGraphicFramePr>
        <p:xfrm>
          <a:off x="1042920" y="1268280"/>
          <a:ext cx="7056360" cy="5097600"/>
        </p:xfrm>
        <a:graphic>
          <a:graphicData uri="http://schemas.openxmlformats.org/presentationml/2006/ole">
            <p:oleObj progId="Excel.Sheet.12" r:id="rId1" spid="">
              <p:embed/>
              <p:pic>
                <p:nvPicPr>
                  <p:cNvPr id="252" name="Object 4" descr=""/>
                  <p:cNvPicPr/>
                  <p:nvPr/>
                </p:nvPicPr>
                <p:blipFill>
                  <a:blip r:embed="rId2"/>
                  <a:stretch/>
                </p:blipFill>
                <p:spPr>
                  <a:xfrm>
                    <a:off x="1042920" y="1268280"/>
                    <a:ext cx="7056360" cy="5097600"/>
                  </a:xfrm>
                  <a:prstGeom prst="rect">
                    <a:avLst/>
                  </a:prstGeom>
                  <a:ln w="0">
                    <a:noFill/>
                  </a:ln>
                </p:spPr>
              </p:pic>
            </p:oleObj>
          </a:graphicData>
        </a:graphic>
      </p:graphicFrame>
      <p:sp>
        <p:nvSpPr>
          <p:cNvPr id="253" name="Rectangle 6"/>
          <p:cNvSpPr/>
          <p:nvPr/>
        </p:nvSpPr>
        <p:spPr>
          <a:xfrm>
            <a:off x="1482840" y="764640"/>
            <a:ext cx="46810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8. Регистр управления/статуса UART.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250920" y="3357360"/>
            <a:ext cx="8229600" cy="316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икладная программа путём загрузки в два старших разряда SCON определяет режим работы UART. Во всех режимах передача инициируется любой командой, где SBUF указан как получатель байта. Приём в UART в режиме 0 происходит при условии RI=0 и REN=1. В режимах 1-3 приём начинается с приходом стартбита, если REN=1. В TB8 программно устанавливается значение девятого бита данных, который будет передан в режиме 2 или 3. В RB8 фиксируется в режимах 2 и 3 девятый принимаемый бит данных. В режиме 1, если SM2=0, в бит RB8 заносится стоп-бит. В режиме 0 RB8 не используется. Флаг прерывания передатчика TI устанавливается аппаратно в конце периода передачи восьмого бита данных в режиме 0 и в начале периода передачи стоп-бита в режимах 1-3. Подпрограмма обслуживания этого прерывания должна сбрасывать бит TI. Флаг прерывания приёмника RI устанавливается аппаратно в конце периода приёма восьмого бита данных в режиме 0 и в середине периода приёма стол-бита в режимах 1-3. Подпрограмма обслуживания прерывания должна сбрасывать бит RI. </a:t>
            </a:r>
            <a:endParaRPr b="0" lang="en-US" sz="1600" spc="-1" strike="noStrike">
              <a:solidFill>
                <a:srgbClr val="000000"/>
              </a:solidFill>
              <a:latin typeface="Arial"/>
            </a:endParaRPr>
          </a:p>
        </p:txBody>
      </p:sp>
      <p:graphicFrame>
        <p:nvGraphicFramePr>
          <p:cNvPr id="255" name="Object 4"/>
          <p:cNvGraphicFramePr/>
          <p:nvPr/>
        </p:nvGraphicFramePr>
        <p:xfrm>
          <a:off x="900000" y="1268280"/>
          <a:ext cx="6553440" cy="1881360"/>
        </p:xfrm>
        <a:graphic>
          <a:graphicData uri="http://schemas.openxmlformats.org/presentationml/2006/ole">
            <p:oleObj progId="Excel.Sheet.12" r:id="rId1" spid="">
              <p:embed/>
              <p:pic>
                <p:nvPicPr>
                  <p:cNvPr id="256" name="Object 4" descr=""/>
                  <p:cNvPicPr/>
                  <p:nvPr/>
                </p:nvPicPr>
                <p:blipFill>
                  <a:blip r:embed="rId2"/>
                  <a:stretch/>
                </p:blipFill>
                <p:spPr>
                  <a:xfrm>
                    <a:off x="900000" y="1268280"/>
                    <a:ext cx="6553440" cy="1881360"/>
                  </a:xfrm>
                  <a:prstGeom prst="rect">
                    <a:avLst/>
                  </a:prstGeom>
                  <a:ln w="0">
                    <a:noFill/>
                  </a:ln>
                </p:spPr>
              </p:pic>
            </p:oleObj>
          </a:graphicData>
        </a:graphic>
      </p:graphicFrame>
      <p:sp>
        <p:nvSpPr>
          <p:cNvPr id="257" name="Rectangle 6"/>
          <p:cNvSpPr/>
          <p:nvPr/>
        </p:nvSpPr>
        <p:spPr>
          <a:xfrm>
            <a:off x="1482840" y="836280"/>
            <a:ext cx="3381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9. Режим работы UART. </a:t>
            </a:r>
            <a:endParaRPr b="0" lang="en-US" sz="16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3640" y="549000"/>
            <a:ext cx="8373960" cy="611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Работа UART в мультиконтроллерных системах.</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системах децентрализованного управления, которые используются для управления и регулирования в топологически распределенных объектах, возникает задача обмена информацией между множеством микроконтроллеров, объединенных в локальную вычислительно-управляющую сеть. Как правило, локальные сети на основе Intel 8051 имеют магистральную архитектуру с разделяемым моноканалом (коаксиальный кабель, витая пара, оптическое волокно), по которому осущест- вляется обмен информацией между контроллерами. Бит SM2 в SCON позволяет простыми средствами реализовать межконтроллерный обмен. Механизм обмена построен на том, что в режимах 2 и 3 программируемый девятый бит данных при приёме фиксируется в бите RB8. UART может быть запрограммирован таким образом, что при получении стоп-бита прерывание от приёмника будет возможно только при условии RB8=1. Ведущий контроллер всем ведомым передаёт широковещательное сообщение с байтом-идентификатором абонента, которое отличается от байтов данных только тем, что в его девятом бите содержится 1. Ведомые по этому признаку вызывают подпрограммы сравнения байта-идентификатора с кодом собственного сетевого адреса. Адресуемый контроллер сбрасывает свой SM2 и готовится к приёму блока данных. Остальные ведомые микроконтроллеры оставляют неизменными свои SM2=1 и передают управление основной программе. При SM2=1 информационные байты в сети прерывания не вызывают. В режиме 1 автономного микроконтроллера SM2 используется для контроля истинности стоп-бита. В режиме 0 SM2 не используется и должен быть сброшен.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68360" y="549360"/>
            <a:ext cx="8229600" cy="525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Скорость приёма/передач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корость зависит от режима работы UART. В режиме 0 частота зависит только от резонатора: f0=fрез/12. За один машинный цикл передаётся один бит. В режимах 1-3 скорость зависит от значения управляющего бита SMOD в регистре специальных функций PCON (табл. 10). В режиме 2 частота передачи f2=(2SMOD/64)fрез. В режимах 1 и 3 в формировании частоты передачи кроме управляющего бита SMOD принимает участие таймер 1. При этом частота передачи зависит от частоты переполнения (OVT1) и определяется следующим образом: f1,3=(2SMOD/32)fOVT1. Прерывание от таймера 1 в этом случае должно быть заблоки- ровано. Сам T/C1 может работать и как таймер, и как счётчик событий в любом из трёх режимов. Однако наиболее удобно использовать режим таймера с автоперезагрузкой (старшая тетрада TMOD=0010В). При этом частота передачи определяется выражением f1,3=(2SMOD/32)(fрез/12)(256-(TH1)). В табл. 11 приводится описание способов настройки T/C1 для получения типовых частот передачи данных через UART.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1268280" y="692280"/>
            <a:ext cx="520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0. Регистр управления мощностью PCON. </a:t>
            </a:r>
            <a:endParaRPr b="0" lang="en-US" sz="1600" spc="-1" strike="noStrike">
              <a:solidFill>
                <a:srgbClr val="000000"/>
              </a:solidFill>
              <a:latin typeface="Arial"/>
            </a:endParaRPr>
          </a:p>
        </p:txBody>
      </p:sp>
      <p:graphicFrame>
        <p:nvGraphicFramePr>
          <p:cNvPr id="261" name="Object 5"/>
          <p:cNvGraphicFramePr/>
          <p:nvPr/>
        </p:nvGraphicFramePr>
        <p:xfrm>
          <a:off x="900000" y="1197000"/>
          <a:ext cx="7344000" cy="3508200"/>
        </p:xfrm>
        <a:graphic>
          <a:graphicData uri="http://schemas.openxmlformats.org/presentationml/2006/ole">
            <p:oleObj progId="Excel.Sheet.12" r:id="rId1" spid="">
              <p:embed/>
              <p:pic>
                <p:nvPicPr>
                  <p:cNvPr id="262" name="Object 5" descr=""/>
                  <p:cNvPicPr/>
                  <p:nvPr/>
                </p:nvPicPr>
                <p:blipFill>
                  <a:blip r:embed="rId2"/>
                  <a:stretch/>
                </p:blipFill>
                <p:spPr>
                  <a:xfrm>
                    <a:off x="900000" y="1197000"/>
                    <a:ext cx="7344000" cy="3508200"/>
                  </a:xfrm>
                  <a:prstGeom prst="rect">
                    <a:avLst/>
                  </a:prstGeom>
                  <a:ln w="0">
                    <a:noFill/>
                  </a:ln>
                </p:spPr>
              </p:pic>
            </p:oleObj>
          </a:graphicData>
        </a:graphic>
      </p:graphicFrame>
      <p:sp>
        <p:nvSpPr>
          <p:cNvPr id="263" name="Rectangle 8"/>
          <p:cNvSpPr/>
          <p:nvPr/>
        </p:nvSpPr>
        <p:spPr>
          <a:xfrm>
            <a:off x="826920" y="4942440"/>
            <a:ext cx="72723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 При одновременной записи 1 в PD и IDL бит PD имее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имущество. Сброс PCON выполняется путем загрузки в него кода 0XXX0000. </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539640" y="836640"/>
            <a:ext cx="8229600" cy="5472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контроллеры рассматриваемого семейства являются типичными микропроцессорными устройствами с архитектурой SISC - со стандартным набором команд. Поэтому их система команд довольно обширна и включает в себя 111 основных команд. Их длина - один, два или три байта, причем большинство из них (94%) - одно- или двухбайтные. Все команды выполняются за один или два машинных цикла (соответственно 1 или 2 мкс при тактовой частоте 12 МГц), исключение - команды умножения и деления, которые выполняются за четыре машинных цикла (4 мкс). Микроконтроллеры семейства 8051 используют прямую, непосредственную, косвенную и неявную, адресацию данных.</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качестве операндов команд микроконтроллеры семейства 8051 могут использовать отдельные биты, четырехбитные цифры, байты и двухбайтные слова.</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эти черты обычны для набора команд любого SISC-процессора и по сранению с RISC набором команд обеспечивает большую компактность программного кода и увеличение быстродействия при выполнении сложных операций.</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то же время, набор команд семейства 8051 имеет несколько особенностей, связанных с типичными функциями выполняемыми микроконтроллерами - управлением, для которого типичным является оперирование с одноразрядными двоическими сигналами, большое число операций ввода выводи и ветвлений программы.</a:t>
            </a:r>
            <a:endParaRPr b="0" lang="en-US" sz="16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4"/>
          <p:cNvGraphicFramePr/>
          <p:nvPr/>
        </p:nvGraphicFramePr>
        <p:xfrm>
          <a:off x="468360" y="1628640"/>
          <a:ext cx="8137440" cy="4464360"/>
        </p:xfrm>
        <a:graphic>
          <a:graphicData uri="http://schemas.openxmlformats.org/presentationml/2006/ole">
            <p:oleObj progId="Excel.Sheet.12" r:id="rId1" spid="">
              <p:embed/>
              <p:pic>
                <p:nvPicPr>
                  <p:cNvPr id="265" name="Object 4" descr=""/>
                  <p:cNvPicPr/>
                  <p:nvPr/>
                </p:nvPicPr>
                <p:blipFill>
                  <a:blip r:embed="rId2"/>
                  <a:stretch/>
                </p:blipFill>
                <p:spPr>
                  <a:xfrm>
                    <a:off x="468360" y="1628640"/>
                    <a:ext cx="8137440" cy="4464360"/>
                  </a:xfrm>
                  <a:prstGeom prst="rect">
                    <a:avLst/>
                  </a:prstGeom>
                  <a:ln w="0">
                    <a:noFill/>
                  </a:ln>
                </p:spPr>
              </p:pic>
            </p:oleObj>
          </a:graphicData>
        </a:graphic>
      </p:graphicFrame>
      <p:sp>
        <p:nvSpPr>
          <p:cNvPr id="266" name="Rectangle 6"/>
          <p:cNvSpPr/>
          <p:nvPr/>
        </p:nvSpPr>
        <p:spPr>
          <a:xfrm>
            <a:off x="468360" y="692280"/>
            <a:ext cx="74167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1. Настройка таймера 1 для управления частотой работы UAR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Rectangle 7"/>
          <p:cNvSpPr/>
          <p:nvPr/>
        </p:nvSpPr>
        <p:spPr>
          <a:xfrm>
            <a:off x="507960" y="2925720"/>
            <a:ext cx="7920" cy="7920"/>
          </a:xfrm>
          <a:prstGeom prst="rect">
            <a:avLst/>
          </a:prstGeom>
          <a:solidFill>
            <a:srgbClr val="9999ff"/>
          </a:solidFill>
          <a:ln w="936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Rectangle 8"/>
          <p:cNvSpPr/>
          <p:nvPr/>
        </p:nvSpPr>
        <p:spPr>
          <a:xfrm>
            <a:off x="546120" y="1267920"/>
            <a:ext cx="1895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ймер/счётчик 1 </a:t>
            </a:r>
            <a:endParaRPr b="0" lang="en-US" sz="1600" spc="-1" strike="noStrike">
              <a:solidFill>
                <a:srgbClr val="000000"/>
              </a:solidFill>
              <a:latin typeface="Arial"/>
            </a:endParaRPr>
          </a:p>
        </p:txBody>
      </p:sp>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908000" y="692280"/>
            <a:ext cx="2664000" cy="45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истема прерываний.</a:t>
            </a:r>
            <a:r>
              <a:rPr b="0" lang="ru-RU" sz="1400" spc="-1" strike="noStrike">
                <a:solidFill>
                  <a:srgbClr val="000000"/>
                </a:solidFill>
                <a:latin typeface="Arial"/>
              </a:rPr>
              <a:t> </a:t>
            </a:r>
            <a:br>
              <a:rPr sz="1400"/>
            </a:br>
            <a:endParaRPr b="0" lang="en-US" sz="1400" spc="-1" strike="noStrike">
              <a:solidFill>
                <a:srgbClr val="000000"/>
              </a:solidFill>
              <a:latin typeface="Arial"/>
            </a:endParaRPr>
          </a:p>
        </p:txBody>
      </p:sp>
      <p:sp>
        <p:nvSpPr>
          <p:cNvPr id="270" name="PlaceHolder 2"/>
          <p:cNvSpPr>
            <a:spLocks noGrp="1"/>
          </p:cNvSpPr>
          <p:nvPr>
            <p:ph/>
          </p:nvPr>
        </p:nvSpPr>
        <p:spPr>
          <a:xfrm>
            <a:off x="4356000" y="1267920"/>
            <a:ext cx="4464000" cy="5185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Внешние прерывания INT0 и INT1 (рис. 2) могут быть вызваны уровнем или переходом сигнала из 1 в 0 на входах микроконтроллера в зависимости от значений управляющих битов IT0 и IT1 в регистре TCON. От внешних прерываний устанавливаются флаги IE0 и IE1 в регистре TCON, которые инициируют вызов соответствующей подпрограммы обслуживания прерывания. Сброс этих флагов выполняется аппаратно только в том случае, если прерывание было вызвано по переходу (срезу) сигнала. Если же прерывание вызвано уровнем входного сигнала, то сбросом флага IE управляет соответствующая подпрограмма обслуживания прерывания путем воздействия на источник прерывания с целью снятия им запроса. </a:t>
            </a:r>
            <a:endParaRPr b="0" lang="en-US" sz="1600" spc="-1" strike="noStrike">
              <a:solidFill>
                <a:srgbClr val="000000"/>
              </a:solidFill>
              <a:latin typeface="Arial"/>
            </a:endParaRPr>
          </a:p>
        </p:txBody>
      </p:sp>
      <p:pic>
        <p:nvPicPr>
          <p:cNvPr id="271" name="Picture 5" descr="Z80"/>
          <p:cNvPicPr/>
          <p:nvPr/>
        </p:nvPicPr>
        <p:blipFill>
          <a:blip r:embed="rId1"/>
          <a:stretch/>
        </p:blipFill>
        <p:spPr>
          <a:xfrm>
            <a:off x="324000" y="1341360"/>
            <a:ext cx="4162320" cy="3971880"/>
          </a:xfrm>
          <a:prstGeom prst="rect">
            <a:avLst/>
          </a:prstGeom>
          <a:ln w="0">
            <a:noFill/>
          </a:ln>
        </p:spPr>
      </p:pic>
      <p:sp>
        <p:nvSpPr>
          <p:cNvPr id="272" name="Rectangle 8"/>
          <p:cNvSpPr/>
          <p:nvPr/>
        </p:nvSpPr>
        <p:spPr>
          <a:xfrm>
            <a:off x="474480" y="5444640"/>
            <a:ext cx="28036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 Схема прерываний. </a:t>
            </a:r>
            <a:endParaRPr b="0" lang="en-US" sz="1600" spc="-1" strike="noStrike">
              <a:solidFill>
                <a:srgbClr val="000000"/>
              </a:solidFill>
              <a:latin typeface="Arial"/>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4920" y="691920"/>
            <a:ext cx="8064360" cy="1871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Флаги запросов прерывания от таймеров TF0 и TF1 сбрасываются автоматически при передаче управления подпрограмме обслуживания. Флаги запросов прерывания RI и TI устанавливаются UART аппаратно, но сбрасываться должны программой. Прерывания могут быть вызваны или отменены программой, так как все перечисленные флаги программно доступны. В блоке регистров специальных функций есть два регистра, предназначенных для управления режимом прерываний и уровнями приоритета. Форматы этих регистров, имеющих символические имена IE и IP описаны в табл. 12 и 13 соответственно. </a:t>
            </a:r>
            <a:endParaRPr b="0" lang="en-US" sz="1600" spc="-1" strike="noStrike">
              <a:solidFill>
                <a:srgbClr val="000000"/>
              </a:solidFill>
              <a:latin typeface="Arial"/>
            </a:endParaRPr>
          </a:p>
        </p:txBody>
      </p:sp>
      <p:sp>
        <p:nvSpPr>
          <p:cNvPr id="274" name="Rectangle 7"/>
          <p:cNvSpPr/>
          <p:nvPr/>
        </p:nvSpPr>
        <p:spPr>
          <a:xfrm>
            <a:off x="979200" y="2707920"/>
            <a:ext cx="430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2. Регистр масок прерывания IE. </a:t>
            </a:r>
            <a:endParaRPr b="0" lang="en-US" sz="1600" spc="-1" strike="noStrike">
              <a:solidFill>
                <a:srgbClr val="000000"/>
              </a:solidFill>
              <a:latin typeface="Arial"/>
            </a:endParaRPr>
          </a:p>
        </p:txBody>
      </p:sp>
      <p:graphicFrame>
        <p:nvGraphicFramePr>
          <p:cNvPr id="275" name="Object 9"/>
          <p:cNvGraphicFramePr/>
          <p:nvPr/>
        </p:nvGraphicFramePr>
        <p:xfrm>
          <a:off x="971640" y="3141720"/>
          <a:ext cx="6985080" cy="3486240"/>
        </p:xfrm>
        <a:graphic>
          <a:graphicData uri="http://schemas.openxmlformats.org/presentationml/2006/ole">
            <p:oleObj progId="Excel.Sheet.12" r:id="rId1" spid="">
              <p:embed/>
              <p:pic>
                <p:nvPicPr>
                  <p:cNvPr id="276" name="Object 9" descr=""/>
                  <p:cNvPicPr/>
                  <p:nvPr/>
                </p:nvPicPr>
                <p:blipFill>
                  <a:blip r:embed="rId2"/>
                  <a:stretch/>
                </p:blipFill>
                <p:spPr>
                  <a:xfrm>
                    <a:off x="971640" y="3141720"/>
                    <a:ext cx="6985080" cy="3486240"/>
                  </a:xfrm>
                  <a:prstGeom prst="rect">
                    <a:avLst/>
                  </a:prstGeom>
                  <a:ln w="0">
                    <a:noFill/>
                  </a:ln>
                </p:spPr>
              </p:pic>
            </p:oleObj>
          </a:graphicData>
        </a:graphic>
      </p:graphicFrame>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1125000" y="764640"/>
            <a:ext cx="4947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3. Регистр приоритетов прерывания IP. </a:t>
            </a:r>
            <a:endParaRPr b="0" lang="en-US" sz="1600" spc="-1" strike="noStrike">
              <a:solidFill>
                <a:srgbClr val="000000"/>
              </a:solidFill>
              <a:latin typeface="Arial"/>
            </a:endParaRPr>
          </a:p>
        </p:txBody>
      </p:sp>
      <p:graphicFrame>
        <p:nvGraphicFramePr>
          <p:cNvPr id="278" name="Object 14"/>
          <p:cNvGraphicFramePr/>
          <p:nvPr/>
        </p:nvGraphicFramePr>
        <p:xfrm>
          <a:off x="900000" y="1197000"/>
          <a:ext cx="7272360" cy="4273560"/>
        </p:xfrm>
        <a:graphic>
          <a:graphicData uri="http://schemas.openxmlformats.org/presentationml/2006/ole">
            <p:oleObj progId="Excel.Sheet.12" r:id="rId1" spid="">
              <p:embed/>
              <p:pic>
                <p:nvPicPr>
                  <p:cNvPr id="279" name="Object 14" descr=""/>
                  <p:cNvPicPr/>
                  <p:nvPr/>
                </p:nvPicPr>
                <p:blipFill>
                  <a:blip r:embed="rId2"/>
                  <a:stretch/>
                </p:blipFill>
                <p:spPr>
                  <a:xfrm>
                    <a:off x="900000" y="1197000"/>
                    <a:ext cx="7272360" cy="4273560"/>
                  </a:xfrm>
                  <a:prstGeom prst="rect">
                    <a:avLst/>
                  </a:prstGeom>
                  <a:ln w="0">
                    <a:noFill/>
                  </a:ln>
                </p:spPr>
              </p:pic>
            </p:oleObj>
          </a:graphicData>
        </a:graphic>
      </p:graphicFrame>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95280" y="691920"/>
            <a:ext cx="8424720" cy="561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600" spc="-1" strike="noStrike">
                <a:solidFill>
                  <a:srgbClr val="000000"/>
                </a:solidFill>
                <a:latin typeface="Arial"/>
              </a:rPr>
              <a:t>Возможность программной установки/сброса любого управляющего бита в этих двух регистрах делает систему прерываний исключительно гибкой. Флаги прерываний опрашиваются в каждом машинном цикле. Ранжирование прерываний по приоритету выполняется в течение следующего машинного цикла. Система прерываний сформирует аппаратно вызов LCALL соответствующей подпрограммы обслуживания, если она не заблокирована одним из услови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Arial"/>
              </a:rPr>
              <a:t>в данный момент обслуживается запрос прерывания равного или более высокого уровня приорите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текущий машинный цикл – не последний в цикле выполняемой команд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ыполняется команда RETI или любая команда, связанная с обращением к регистрам IE или I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a:t>
            </a:r>
            <a:r>
              <a:rPr b="0" lang="ru-RU" sz="1800" spc="-1" strike="noStrike">
                <a:solidFill>
                  <a:srgbClr val="000000"/>
                </a:solidFill>
                <a:latin typeface="Arial"/>
              </a:rPr>
              <a:t> </a:t>
            </a:r>
            <a:r>
              <a:rPr b="0" lang="ru-RU" sz="1600" spc="-1" strike="noStrike">
                <a:solidFill>
                  <a:srgbClr val="000000"/>
                </a:solidFill>
                <a:latin typeface="Arial"/>
              </a:rPr>
              <a:t>Если флаг прерывания был установлен, но по одному из перечисленных условий не получил обслуживания и к моменту окончания блокировки уже был сброшен, то запрос прерывания теряется. По аппаратно сформированному коду команды LCALL система прерывания помещает в стек содержимое программного счётчика PC и загружает в PC адрес вектора прерывания соответствующей подпрограммы обслуживания. По этому адресу должна быть расположена команда безусловного перехода JMP к начальному адресу подпрограммы обслуживания прерывания. Эта подпрограмма в случае необходимости должна начинаться командами записи в стек PUSH слова состояния программы PSW, аккумулятора A, расширителя аккумулятора B, указателя данных DPTR и т.д. и заканчиваться командами восстановления из стека POP. Подпрограммы обслуживания прерывания обязательно завершаются командой RETI, по которой в программный счётчик перезагружается из стека сохранённый адрес возврата в основную программу. Команда RET также возвращает управление, но при этом не снимает блокировку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981080"/>
            <a:ext cx="4038480" cy="2887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Типы ком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го микроконтроллеры семейства 8051 выполняют 13 типов команд, они приведены в таблице. Как следует из нее, первый байт команды всегда содержит код операции (КОП), а второй и третий (если они присутствуют в команде) - адреса операндов или их непосредственные значения.</a:t>
            </a:r>
            <a:endParaRPr b="0" lang="en-US" sz="1600" spc="-1" strike="noStrike">
              <a:solidFill>
                <a:srgbClr val="000000"/>
              </a:solidFill>
              <a:latin typeface="Arial"/>
            </a:endParaRPr>
          </a:p>
        </p:txBody>
      </p:sp>
      <p:graphicFrame>
        <p:nvGraphicFramePr>
          <p:cNvPr id="282" name="Object 4"/>
          <p:cNvGraphicFramePr/>
          <p:nvPr/>
        </p:nvGraphicFramePr>
        <p:xfrm>
          <a:off x="5075280" y="1916280"/>
          <a:ext cx="3084480" cy="3889080"/>
        </p:xfrm>
        <a:graphic>
          <a:graphicData uri="http://schemas.openxmlformats.org/presentationml/2006/ole">
            <p:oleObj progId="Excel.Sheet.12" r:id="rId1" spid="">
              <p:embed/>
              <p:pic>
                <p:nvPicPr>
                  <p:cNvPr id="283" name="Object 4" descr=""/>
                  <p:cNvPicPr/>
                  <p:nvPr/>
                </p:nvPicPr>
                <p:blipFill>
                  <a:blip r:embed="rId2"/>
                  <a:stretch/>
                </p:blipFill>
                <p:spPr>
                  <a:xfrm>
                    <a:off x="5075280" y="1916280"/>
                    <a:ext cx="3084480" cy="3889080"/>
                  </a:xfrm>
                  <a:prstGeom prst="rect">
                    <a:avLst/>
                  </a:prstGeom>
                  <a:ln w="0">
                    <a:noFill/>
                  </a:ln>
                </p:spPr>
              </p:pic>
            </p:oleObj>
          </a:graphicData>
        </a:graphic>
      </p:graphicFrame>
      <p:sp>
        <p:nvSpPr>
          <p:cNvPr id="284" name="Rectangle 7"/>
          <p:cNvSpPr/>
          <p:nvPr/>
        </p:nvSpPr>
        <p:spPr>
          <a:xfrm>
            <a:off x="1837080" y="821520"/>
            <a:ext cx="5144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стема команд, особенности набора команд </a:t>
            </a:r>
            <a:endParaRPr b="0" lang="en-US" sz="1800" spc="-1" strike="noStrike">
              <a:solidFill>
                <a:srgbClr val="000000"/>
              </a:solidFill>
              <a:latin typeface="Arial"/>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539640" y="691920"/>
            <a:ext cx="8229600" cy="288108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Группы команд.</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команды микроконтроллеры семейства 8051 можно разбить на пять функциональных групп:</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сылки данных;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рифметических операций;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гических операций;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ераций над битами;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ачи управления.</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11280" y="476280"/>
            <a:ext cx="662472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Oбозначения, используемые при описании команд:</a:t>
            </a:r>
            <a:endParaRPr b="0" lang="en-US" sz="1600" spc="-1" strike="noStrike">
              <a:solidFill>
                <a:srgbClr val="000000"/>
              </a:solidFill>
              <a:latin typeface="Arial"/>
            </a:endParaRPr>
          </a:p>
        </p:txBody>
      </p:sp>
      <p:sp>
        <p:nvSpPr>
          <p:cNvPr id="287" name="PlaceHolder 2"/>
          <p:cNvSpPr>
            <a:spLocks noGrp="1"/>
          </p:cNvSpPr>
          <p:nvPr>
            <p:ph/>
          </p:nvPr>
        </p:nvSpPr>
        <p:spPr>
          <a:xfrm>
            <a:off x="539640" y="1052640"/>
            <a:ext cx="8229600" cy="5256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n (n = 0, 1,..., 7) - регистр общего назначения в выбранном банке регистров;</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i(i= 0, 1) - регистр общего назначения в выбранном банке регистров, используемый в качестве регистра косвенного адрес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 - адрес прямоадресуемого бай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s - адрес прямо адресуемого байта-источник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d - адрес прямо адресуемого байта-получател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1 - 11-разрядный абсолют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6 - 16-разрядный абсолют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el - относитель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 - непосредственный опер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611280" y="907920"/>
            <a:ext cx="7345440" cy="432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16 - непосредственный операнд (2 бай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it - адрес прямо адресуемого би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it - инверсия прямо адресуемого би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 аккумулятор;</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С - счетчик ком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PTR - регистр указатель данных;</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 - содержимое ячейки памяти или регистр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178920" y="620280"/>
            <a:ext cx="3241800" cy="38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ы пересылки данных микроконтроллера  805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группа представлена 28 командами, их краткое описание приведено в таблице, гд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0" name="Object 9"/>
          <p:cNvGraphicFramePr/>
          <p:nvPr/>
        </p:nvGraphicFramePr>
        <p:xfrm>
          <a:off x="3492360" y="476280"/>
          <a:ext cx="5078520" cy="6237360"/>
        </p:xfrm>
        <a:graphic>
          <a:graphicData uri="http://schemas.openxmlformats.org/presentationml/2006/ole">
            <p:oleObj progId="Excel.Sheet.12" r:id="rId1" spid="">
              <p:embed/>
              <p:pic>
                <p:nvPicPr>
                  <p:cNvPr id="291" name="Object 9" descr=""/>
                  <p:cNvPicPr/>
                  <p:nvPr/>
                </p:nvPicPr>
                <p:blipFill>
                  <a:blip r:embed="rId2"/>
                  <a:stretch/>
                </p:blipFill>
                <p:spPr>
                  <a:xfrm>
                    <a:off x="3492360" y="476280"/>
                    <a:ext cx="5078520" cy="6237360"/>
                  </a:xfrm>
                  <a:prstGeom prst="rect">
                    <a:avLst/>
                  </a:prstGeom>
                  <a:ln w="0">
                    <a:noFill/>
                  </a:ln>
                </p:spPr>
              </p:pic>
            </p:oleObj>
          </a:graphicData>
        </a:graphic>
      </p:graphicFrame>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539640" y="764640"/>
            <a:ext cx="8229600" cy="4969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Наиболее существенная особенность системы команд рассматриваемых микроконтроллеров это возможность адресации отдельных бит в резидентной памяти данных. Кроме того, как отмечалось, некоторые регистры блока регистров специальных функций также допускают адресацию отдельных би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Арифметико-логическое устройство.</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8-битное арифметико-логическое устройство (ALU) может выполнять арифметические операции сложения, вычитания, умножения и деления; логические операции И, ИЛИ, исключающее ИЛИ, а также операции циклического сдвига, сброса, инвертирования и т.п. К входам подключены программно-недоступные регистры T1 и T2, предназначенные для временного хранения операндов, схема десятичной коррекции (DCU) и схема формирования признаков результата операции (PSW).</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остейшая операция сложения используется в ALU для инкрементирования содержимого регистров, продвижения регистра-указателя данных (RAR) и автоматического вычисления следующего адреса резидентной памяти программ. Простейшая операция вычитания используется в ALU для декрементирования регистров и сравнения переменных.</a:t>
            </a:r>
            <a:endParaRPr b="0" lang="en-US" sz="1600" spc="-1" strike="noStrike">
              <a:solidFill>
                <a:srgbClr val="000000"/>
              </a:solidFill>
              <a:latin typeface="Arial"/>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476280"/>
            <a:ext cx="8229600" cy="619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команде MOV выполняется пересылка данных из второго операнда в первый. Эта команда не имеет доступа ни к внешней памяти данных, ни к памяти программ. Для этих целей предназначены команды M0VX и MOVC соответственно. Первая из них обеспечивает чтение/запись байт из внешней памяти данных, вторая - чтение байт из памяти программ.</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команде XCH выполняется обмен байтами между аккумулятором и ячейкой РПД, а по команде XCHD - обмен младшими тетрадами (битами 0 - 3).</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манды PUSH и РОР предназначены соответственно для записи данных в стек и их чтения из стека .Размер стека ограничен лишь размером резидентной памяти данных. В процессе инициализации микроконтроллеры после сигнала сброса или при включении питающего напряжения в SP заносится код 07Н. Это означает, что первый элемент стека будет располагаться в ячейке памяти с адресом 08Н.</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 команд пересылок микроконтроллера имеет следующую особенность - в ней нет специальных команд для работы со специальными регистрами: PSW, таймером, портами ввода-вывода. Доступ к ним, как и к другим регистрам специальных функций, осуществляется заданием соответствующего прямого адреса, т.е. это команды обычных пересылок, в которых вместо адреса можно ставить название соответствующего регистра. Например, чтение PSW в аккумулятор может быть выполнено командой:</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7d"/>
                </a:solidFill>
                <a:latin typeface="Arial"/>
              </a:rPr>
              <a:t>MOV A, PSW    ,</a:t>
            </a:r>
            <a:r>
              <a:rPr b="0" lang="ru-RU" sz="1400" spc="-1" strike="noStrike">
                <a:solidFill>
                  <a:srgbClr val="000000"/>
                </a:solidFill>
                <a:latin typeface="Arial"/>
              </a:rPr>
              <a:t>которая преобразуется Ассемблером к виду:</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7d"/>
                </a:solidFill>
                <a:latin typeface="Arial"/>
              </a:rPr>
              <a:t>MOV А, 0D0h (E5 D0)    ,</a:t>
            </a:r>
            <a:r>
              <a:rPr b="0" lang="ru-RU" sz="1400" spc="-1" strike="noStrike">
                <a:solidFill>
                  <a:srgbClr val="000000"/>
                </a:solidFill>
                <a:latin typeface="Arial"/>
              </a:rPr>
              <a:t> где Е5 - код операции, а D0 - операнд (адрес PSW).</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роме того, следует отметить, что в микроконтроллере аккумулятор имеет два различных имени в зависимости от способа адресации: А - при неявной адресации (например, MOV A, R0) и АСС - при использовании прямого адреса. Первый способ предпочтительнее, однако, не всегда применим.</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0" y="620280"/>
            <a:ext cx="3564000" cy="525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оманды арифметических операций микроконтроллера  805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данную группу входят 24 команды, краткое описание которых приведено в таблице. Из нее следует, что микроЭВМ выполняет достаточно широкий набор команд для организации обработки целочисленных данных, включая команды умножения и делени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4" name="Object 4"/>
          <p:cNvGraphicFramePr/>
          <p:nvPr/>
        </p:nvGraphicFramePr>
        <p:xfrm>
          <a:off x="3708360" y="836640"/>
          <a:ext cx="5194440" cy="5616720"/>
        </p:xfrm>
        <a:graphic>
          <a:graphicData uri="http://schemas.openxmlformats.org/presentationml/2006/ole">
            <p:oleObj progId="Excel.Sheet.12" r:id="rId1" spid="">
              <p:embed/>
              <p:pic>
                <p:nvPicPr>
                  <p:cNvPr id="295" name="Object 4" descr=""/>
                  <p:cNvPicPr/>
                  <p:nvPr/>
                </p:nvPicPr>
                <p:blipFill>
                  <a:blip r:embed="rId2"/>
                  <a:stretch/>
                </p:blipFill>
                <p:spPr>
                  <a:xfrm>
                    <a:off x="3708360" y="836640"/>
                    <a:ext cx="5194440" cy="5616720"/>
                  </a:xfrm>
                  <a:prstGeom prst="rect">
                    <a:avLst/>
                  </a:prstGeom>
                  <a:ln w="0">
                    <a:noFill/>
                  </a:ln>
                </p:spPr>
              </p:pic>
            </p:oleObj>
          </a:graphicData>
        </a:graphic>
      </p:graphicFrame>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765000"/>
            <a:ext cx="8229600" cy="4824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результату выполнения команд ADD, ADDC, SUBB, MUL и DIV устанавливаются флаги PSW, структура которых приведена в таблице.</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лаг С устанавливается при переносе из разряда D7, т. е. в случае, если результат не помещается в восемь разрядов; флаг АС устанавливается при переносе из разряда D3 в командах сложения и вычитания и служит для реализации десятичной арифметики. Этот признак используется командой DA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лаг OV устанавливается при переносе из разряда D6, т. е. в случае, если результат не помещается в семь разрядов и восьмой не может быть интерпретирован как знаковый. Этот признак служит для организации обработки чисел со знаком.</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конец, флаг Р устанавливается и сбрасывается аппаратно. Если число единичных бит в аккумуляторе нечетно, то Р = 1, в противном случае Р = 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Object 7"/>
          <p:cNvGraphicFramePr/>
          <p:nvPr/>
        </p:nvGraphicFramePr>
        <p:xfrm>
          <a:off x="3657600" y="549360"/>
          <a:ext cx="5211720" cy="6119640"/>
        </p:xfrm>
        <a:graphic>
          <a:graphicData uri="http://schemas.openxmlformats.org/presentationml/2006/ole">
            <p:oleObj progId="Excel.Sheet.12" r:id="rId1" spid="">
              <p:embed/>
              <p:pic>
                <p:nvPicPr>
                  <p:cNvPr id="298" name="Object 7" descr=""/>
                  <p:cNvPicPr/>
                  <p:nvPr/>
                </p:nvPicPr>
                <p:blipFill>
                  <a:blip r:embed="rId2"/>
                  <a:stretch/>
                </p:blipFill>
                <p:spPr>
                  <a:xfrm>
                    <a:off x="3657600" y="549360"/>
                    <a:ext cx="5211720" cy="6119640"/>
                  </a:xfrm>
                  <a:prstGeom prst="rect">
                    <a:avLst/>
                  </a:prstGeom>
                  <a:ln w="0">
                    <a:noFill/>
                  </a:ln>
                </p:spPr>
              </p:pic>
            </p:oleObj>
          </a:graphicData>
        </a:graphic>
      </p:graphicFrame>
      <p:sp>
        <p:nvSpPr>
          <p:cNvPr id="299" name="Rectangle 10"/>
          <p:cNvSpPr/>
          <p:nvPr/>
        </p:nvSpPr>
        <p:spPr>
          <a:xfrm>
            <a:off x="0" y="549360"/>
            <a:ext cx="35640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Команды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логических операций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микроконтроллера 8051</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этой группе 25 команд, их краткое описание приведено в таблице. Нетрудно видеть, что эти команды позволяют выполнять операции над байтами: логическое И (/ ), логическое ИЛИ ( /), исключающее ИЛИ ((+)), инверсию (NOT), сброс в нулевое значение и сдвиг. Команды, оперирующие отдельными битами, описаны далее.</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0" name="Object 8"/>
          <p:cNvGraphicFramePr/>
          <p:nvPr/>
        </p:nvGraphicFramePr>
        <p:xfrm>
          <a:off x="1908000" y="3141720"/>
          <a:ext cx="5202360" cy="3463920"/>
        </p:xfrm>
        <a:graphic>
          <a:graphicData uri="http://schemas.openxmlformats.org/presentationml/2006/ole">
            <p:oleObj progId="Excel.Sheet.12" r:id="rId1" spid="">
              <p:embed/>
              <p:pic>
                <p:nvPicPr>
                  <p:cNvPr id="301" name="Object 8" descr=""/>
                  <p:cNvPicPr/>
                  <p:nvPr/>
                </p:nvPicPr>
                <p:blipFill>
                  <a:blip r:embed="rId2"/>
                  <a:stretch/>
                </p:blipFill>
                <p:spPr>
                  <a:xfrm>
                    <a:off x="1908000" y="3141720"/>
                    <a:ext cx="5202360" cy="3463920"/>
                  </a:xfrm>
                  <a:prstGeom prst="rect">
                    <a:avLst/>
                  </a:prstGeom>
                  <a:ln w="0">
                    <a:noFill/>
                  </a:ln>
                </p:spPr>
              </p:pic>
            </p:oleObj>
          </a:graphicData>
        </a:graphic>
      </p:graphicFrame>
      <p:sp>
        <p:nvSpPr>
          <p:cNvPr id="302" name="Rectangle 10"/>
          <p:cNvSpPr/>
          <p:nvPr/>
        </p:nvSpPr>
        <p:spPr>
          <a:xfrm>
            <a:off x="71280" y="480960"/>
            <a:ext cx="9072720" cy="252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оманды операций над битами микроконтроллера 805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Группа состоит из 12 команд, краткое описание которых приведено в таблице. Эти команды позволяют выполнять операции над отдельными битами: сброс, установку, инверсию бита, а также логические И (/) и ИЛИ (/). В качестве "логического" аккумулятора, участвующего во всех операциях с двумя операндами, выступает признак переноса С (разряд D7 PSW), в качестве операндов могут использоваться 128 бит из резидентной памяти данных и регистры специальных функций, допускающие адресацию отдельных б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3" name="Object 4"/>
          <p:cNvGraphicFramePr/>
          <p:nvPr/>
        </p:nvGraphicFramePr>
        <p:xfrm>
          <a:off x="2268360" y="644400"/>
          <a:ext cx="6875640" cy="6213600"/>
        </p:xfrm>
        <a:graphic>
          <a:graphicData uri="http://schemas.openxmlformats.org/presentationml/2006/ole">
            <p:oleObj progId="Excel.Sheet.12" r:id="rId1" spid="">
              <p:embed/>
              <p:pic>
                <p:nvPicPr>
                  <p:cNvPr id="304" name="Object 4" descr=""/>
                  <p:cNvPicPr/>
                  <p:nvPr/>
                </p:nvPicPr>
                <p:blipFill>
                  <a:blip r:embed="rId2"/>
                  <a:stretch/>
                </p:blipFill>
                <p:spPr>
                  <a:xfrm>
                    <a:off x="2268360" y="644400"/>
                    <a:ext cx="6875640" cy="6213600"/>
                  </a:xfrm>
                  <a:prstGeom prst="rect">
                    <a:avLst/>
                  </a:prstGeom>
                  <a:ln w="0">
                    <a:noFill/>
                  </a:ln>
                </p:spPr>
              </p:pic>
            </p:oleObj>
          </a:graphicData>
        </a:graphic>
      </p:graphicFrame>
      <p:sp>
        <p:nvSpPr>
          <p:cNvPr id="305" name="Rectangle 7"/>
          <p:cNvSpPr/>
          <p:nvPr/>
        </p:nvSpPr>
        <p:spPr>
          <a:xfrm>
            <a:off x="0" y="1773360"/>
            <a:ext cx="2305080" cy="41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 представлена командами безусловного и условного переходов, командами вызова подпрограмм и командами возврата из подпрограм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таблице также указаны тип команды (Т) в соответствии с таблицей, ее длин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байтах (В) и время выполнения в машинных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циклах (С)</a:t>
            </a:r>
            <a:endParaRPr b="0" lang="en-US" sz="1400" spc="-1" strike="noStrike">
              <a:solidFill>
                <a:srgbClr val="000000"/>
              </a:solidFill>
              <a:latin typeface="Arial"/>
            </a:endParaRPr>
          </a:p>
        </p:txBody>
      </p:sp>
      <p:sp>
        <p:nvSpPr>
          <p:cNvPr id="306" name="Rectangle 8"/>
          <p:cNvSpPr/>
          <p:nvPr/>
        </p:nvSpPr>
        <p:spPr>
          <a:xfrm>
            <a:off x="250920" y="621360"/>
            <a:ext cx="1873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дачи управления </a:t>
            </a:r>
            <a:endParaRPr b="0" lang="en-US" sz="1600" spc="-1" strike="noStrike">
              <a:solidFill>
                <a:srgbClr val="000000"/>
              </a:solidFill>
              <a:latin typeface="Arial"/>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539280" y="691920"/>
            <a:ext cx="7705800" cy="5211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безусловного перехода LJMP (L - long - длинный) осуществляет переход по абсолютному 16-битному адресу, указанному в теле команды, т. е. команда обеспечивает переход в любую точку памяти программ.</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ствие команды AJMP (А - absolute - абсолютный) аналогично команде LJMP, однако в теле команды указаны лишь 11 младших разрядов адреса. Поэтому переход осуществляется в пределах страницы размером 2 Кбайт, при этом надо иметь в виду, что сначала содержимое счетчика команд увеличивается на 2 и только потом заменяются 11 разрядов адрес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отличие от предыдущих команд, в команде SJMP (S - short - короткий) указан не абсолютный, а относительный адрес перехода. Величина смещения reI рассматривается как число со знаком, а, следовательно, переход возможен в пределах - 128...+127 байт относительно адреса команды, следующей за командой SJM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косвенного перехода JMP @A+DPTR позволяет вычислять адрес перехода в процессе выполнения самой программы.</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539640" y="692280"/>
            <a:ext cx="8229600" cy="5688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мандами условного перехода можно проверять следующие условия:</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Z - аккумулятор содержит нулевое значение;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Z - аккумулятор содержит не нулевое значение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C - бит переноса С установлен;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C - бит переноса С не установлен;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B - прямо адресуемый бит равен 1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B - прямо адресуемый бит равен 0;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BC - прямо адресуемый бит равен 1 и сбрасывается в нулевое значение при выполнении команды.</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команды условного перехода рассматриваемых микроконтроллеров содержат короткий относительный адрес, т. е. переход может осуществляться в пределах-128... +127 байт относительно следующей команды.</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DJNZ предназначена для организации программных циклов. Регистр Rn или байт по адресу ad, указанные в теле команды, содержат счетчик повторений цикла, а смещение rеl - относительный адрес перехода к началу цикла. При выполнении команды содержимое счетчика уменьшается на 1 и проверяется на 0. Если значение содержимого счетчика не равно 0, то осуществляется переход на начало цикла, в противном случае выполняется следующая команда.</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95280" y="549360"/>
            <a:ext cx="8229600" cy="5976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CJN удобна для реализации процедур ожидания внешних событий. В теле команды указаны "координаты" двух байт и относительный адрес перехода rel. В качестве двух байт могут быть использованы, например, значения содержимого аккумулятора и прямо адресуемого байта или косвенно адресуемого байта и константы. При выполнении команды значения указанных двух байт сравниваются и в случае, если они не одинаковы, осуществляется переход. Например, коман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7d"/>
                </a:solidFill>
                <a:latin typeface="Arial"/>
              </a:rPr>
              <a:t>       </a:t>
            </a:r>
            <a:r>
              <a:rPr b="0" lang="ru-RU" sz="1600" spc="-1" strike="noStrike">
                <a:solidFill>
                  <a:srgbClr val="00007d"/>
                </a:solidFill>
                <a:latin typeface="Arial"/>
              </a:rPr>
              <a:t>WAIT: CJNE A, P0, WAI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будет выполняться до тех пор, пока значения на линиях порта P0 не совпадут со значениями содержимого аккумулятор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ствие команд вызова процедур полностью аналогично действию команд безусловного перехода. Единственное отличие состоит в том, что они сохраняют в стеке адрес возвра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возврата из подпрограммы RET восстанавливает из стека значение содержимого счетчика команд, а команда возврата из процедуры обработки прерывания RETI, кроме того, разрешает прерывание обслуженного уровня. Команды RET и RETI не различают, какой командой - LCALL или ACALL - была вызвана подпрограмма, так как и в том, и в другом случае в стеке сохраняется полный 16-разрядный адрес возвра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заключение следует отметить, что большинство Ассемблеров допускают обобщенную мнемонику JMP - для команд безусловного перехода и CALL - для команд вызова подпрограмм. Конкретный тип команды определяется Ассемблером, исходя из "длины"перехода или вызов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0" name="Object 4"/>
          <p:cNvGraphicFramePr/>
          <p:nvPr/>
        </p:nvGraphicFramePr>
        <p:xfrm>
          <a:off x="1258920" y="1413000"/>
          <a:ext cx="6337440" cy="3994200"/>
        </p:xfrm>
        <a:graphic>
          <a:graphicData uri="http://schemas.openxmlformats.org/presentationml/2006/ole">
            <p:oleObj progId="Excel.Sheet.12" r:id="rId1" spid="">
              <p:embed/>
              <p:pic>
                <p:nvPicPr>
                  <p:cNvPr id="311" name="Object 4" descr=""/>
                  <p:cNvPicPr/>
                  <p:nvPr/>
                </p:nvPicPr>
                <p:blipFill>
                  <a:blip r:embed="rId2"/>
                  <a:stretch/>
                </p:blipFill>
                <p:spPr>
                  <a:xfrm>
                    <a:off x="1258920" y="1413000"/>
                    <a:ext cx="6337440" cy="3994200"/>
                  </a:xfrm>
                  <a:prstGeom prst="rect">
                    <a:avLst/>
                  </a:prstGeom>
                  <a:ln w="0">
                    <a:noFill/>
                  </a:ln>
                </p:spPr>
              </p:pic>
            </p:oleObj>
          </a:graphicData>
        </a:graphic>
      </p:graphicFrame>
      <p:sp>
        <p:nvSpPr>
          <p:cNvPr id="312" name="Rectangle 7"/>
          <p:cNvSpPr/>
          <p:nvPr/>
        </p:nvSpPr>
        <p:spPr>
          <a:xfrm>
            <a:off x="766080" y="620280"/>
            <a:ext cx="6773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ы адресов битовых областей памяти микроконтроллера 8051 </a:t>
            </a:r>
            <a:endParaRPr b="0" lang="en-US" sz="1600" spc="-1" strike="noStrike">
              <a:solidFill>
                <a:srgbClr val="000000"/>
              </a:solidFill>
              <a:latin typeface="Arial"/>
            </a:endParaRPr>
          </a:p>
        </p:txBody>
      </p:sp>
      <p:sp>
        <p:nvSpPr>
          <p:cNvPr id="313" name="Rectangle 8"/>
          <p:cNvSpPr/>
          <p:nvPr/>
        </p:nvSpPr>
        <p:spPr>
          <a:xfrm>
            <a:off x="611280" y="980640"/>
            <a:ext cx="16570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мять данных </a:t>
            </a:r>
            <a:endParaRPr b="0" lang="en-US" sz="1600" spc="-1" strike="noStrike">
              <a:solidFill>
                <a:srgbClr val="000000"/>
              </a:solidFill>
              <a:latin typeface="Arial"/>
            </a:endParaRPr>
          </a:p>
        </p:txBody>
      </p:sp>
      <p:sp>
        <p:nvSpPr>
          <p:cNvPr id="314" name="Rectangle 10"/>
          <p:cNvSpPr/>
          <p:nvPr/>
        </p:nvSpPr>
        <p:spPr>
          <a:xfrm>
            <a:off x="395280" y="5516640"/>
            <a:ext cx="8229600" cy="942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МЕЧАНИЕ. Адрес прямо адресуемых битов может быть записан либо в виде выражения (АдресБайта).(Разряд), например выражение 21.3 означает адрес третего разряда ячейки памяти с адресом 21H, либо в виде абсолютного битового адреса, который для данного бита равен (см. таблицу) 0B.</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68360" y="764640"/>
            <a:ext cx="8229600" cy="5185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ростейшие операции автоматически образуют “тандемы” для выполнения таких операций, как, например, инкрементирование 16-битных регистровых пар. В ALU реализуется механизм каскадного выполнения простейших операций для реализации сложных команд. Так, например, при выполнении одной из команд условной передачи управления по результату сравнения в ALU трижды инкрементируется счётчик команд (PC), дважды производится чтение из RDM, выполняется арифметическое сравнение двух переменных, формируется 16-битный адрес перехода и принимается решение о том, делать или не делать переход по программе. Все перечисленные операции выполняются всего лишь за 2 мк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ажной особенностью ALU является его способность оперировать не только байтами, но и битами. Отдельные программно-доступные биты могут быть установлены, сброшены, инвертированы, переданы, проверены и использованы в логических операциях. Эта способность достаточно важна, поскольку для управления объектами часто применяются алгоритмы, содержащие операции над входными и выходными булевыми переменными, реализация которых средствами обычных микропроцессоров сопряжена с определенными трудностям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иже прииведена структурная схема микроконтроллера КМ1816ВЕ51. </a:t>
            </a:r>
            <a:endParaRPr b="0" lang="en-US" sz="1600" spc="-1" strike="noStrike">
              <a:solidFill>
                <a:srgbClr val="000000"/>
              </a:solidFill>
              <a:latin typeface="Arial"/>
            </a:endParaRPr>
          </a:p>
        </p:txBody>
      </p:sp>
    </p:spTree>
  </p:cSld>
  <p:transition>
    <p:checke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5" name="Object 5"/>
          <p:cNvGraphicFramePr/>
          <p:nvPr/>
        </p:nvGraphicFramePr>
        <p:xfrm>
          <a:off x="971640" y="1197000"/>
          <a:ext cx="7200720" cy="5168880"/>
        </p:xfrm>
        <a:graphic>
          <a:graphicData uri="http://schemas.openxmlformats.org/presentationml/2006/ole">
            <p:oleObj progId="Excel.Sheet.12" r:id="rId1" spid="">
              <p:embed/>
              <p:pic>
                <p:nvPicPr>
                  <p:cNvPr id="316" name="Object 5" descr=""/>
                  <p:cNvPicPr/>
                  <p:nvPr/>
                </p:nvPicPr>
                <p:blipFill>
                  <a:blip r:embed="rId2"/>
                  <a:stretch/>
                </p:blipFill>
                <p:spPr>
                  <a:xfrm>
                    <a:off x="971640" y="1197000"/>
                    <a:ext cx="7200720" cy="5168880"/>
                  </a:xfrm>
                  <a:prstGeom prst="rect">
                    <a:avLst/>
                  </a:prstGeom>
                  <a:ln w="0">
                    <a:noFill/>
                  </a:ln>
                </p:spPr>
              </p:pic>
            </p:oleObj>
          </a:graphicData>
        </a:graphic>
      </p:graphicFrame>
      <p:sp>
        <p:nvSpPr>
          <p:cNvPr id="317" name="Rectangle 7"/>
          <p:cNvSpPr/>
          <p:nvPr/>
        </p:nvSpPr>
        <p:spPr>
          <a:xfrm>
            <a:off x="1692360" y="420480"/>
            <a:ext cx="3529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гистры специальных функц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4"/>
          <p:cNvSpPr/>
          <p:nvPr/>
        </p:nvSpPr>
        <p:spPr>
          <a:xfrm>
            <a:off x="503280" y="694440"/>
            <a:ext cx="846144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 Адрес прямо адресуемых битов может быть записан либо в вид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ражения</a:t>
            </a:r>
            <a:r>
              <a:rPr b="0" lang="en-US" sz="1600" spc="-1" strike="noStrike">
                <a:solidFill>
                  <a:srgbClr val="000000"/>
                </a:solidFill>
                <a:latin typeface="Arial"/>
              </a:rPr>
              <a:t> </a:t>
            </a:r>
            <a:r>
              <a:rPr b="0" lang="ru-RU" sz="1600" spc="-1" strike="noStrike">
                <a:solidFill>
                  <a:srgbClr val="000000"/>
                </a:solidFill>
                <a:latin typeface="Arial"/>
              </a:rPr>
              <a:t> (НазваниеРегистра)</a:t>
            </a:r>
            <a:r>
              <a:rPr b="1" lang="ru-RU" sz="1600" spc="-1" strike="noStrike">
                <a:solidFill>
                  <a:srgbClr val="000000"/>
                </a:solidFill>
                <a:latin typeface="Arial"/>
              </a:rPr>
              <a:t>.</a:t>
            </a:r>
            <a:r>
              <a:rPr b="0" lang="ru-RU" sz="1600" spc="-1" strike="noStrike">
                <a:solidFill>
                  <a:srgbClr val="000000"/>
                </a:solidFill>
                <a:latin typeface="Arial"/>
              </a:rPr>
              <a:t>(Разряд), например выражение SCON.3 означает адрес  третего разряда регистра SCON, либо в виде абсолютного битового адреса, который  для данного бита равен (см. таблицу) 9B. Кроме того, некоторые биты управляющих регистров имеют собственные названия, так например данный би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меет название TB8.</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8" descr="Z80"/>
          <p:cNvPicPr/>
          <p:nvPr/>
        </p:nvPicPr>
        <p:blipFill>
          <a:blip r:embed="rId1"/>
          <a:stretch/>
        </p:blipFill>
        <p:spPr>
          <a:xfrm>
            <a:off x="826920" y="404640"/>
            <a:ext cx="7417080" cy="631044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68360" y="691920"/>
            <a:ext cx="8207280" cy="48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Таким образом, ALU может оперировать четырьмя типами информационных объектов: булевыми (1 бит), цифровыми (4 бита), байтными (8 бит) и адресными (16 бит). В ALU выполняется 51 различная операция пересылки или преобразования этих данных. Так как используется 11 режимов адресации (7 для данных и 4 для адресов), то путем комбинирования операции и режима адресации базовое число команд 111 расширяется до 255 из 256 возможных при однобайтном коде операци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Резидентная память программ и данных.</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зидентные (размещённые на кристалле) память программ (RPM) и память данных (RDM) физически и логически разделены, имеют различные механизмы адресации, работают под управлением различных сигналов и выполняют разные функции</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амять программ RPM имеет емкость 4 Кбайта и предназначена для хранения команд, констант, управляющих слов инициализации, таблиц перекодировки входных и выходных переменных и т.п. Память имеет 16-битную шину адреса, через которую обеспечивается доступ из программного счётчика PC или из регистра- указателя данных (DPTR).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836280"/>
            <a:ext cx="8229600" cy="287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DPTR выполняет функции базового регистра при косвенных переходах по программе или используется в операциях с таблицами. Память данных RDM предназначена для хранения переменных в процессе выполнения прикладной программы, адресуется одним байтом и имеет емкость 128 байт. Кроме того, к её адресному пространству примыкают адреса регистров специальных функций, которые перечислены в табл. 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амять программ, так же как и память данных, может быть расширена до 64 Кбайт путем подключения внешних микросхем.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 name="Object 1060"/>
          <p:cNvGraphicFramePr/>
          <p:nvPr/>
        </p:nvGraphicFramePr>
        <p:xfrm>
          <a:off x="393840" y="914400"/>
          <a:ext cx="6057720" cy="5842080"/>
        </p:xfrm>
        <a:graphic>
          <a:graphicData uri="http://schemas.openxmlformats.org/presentationml/2006/ole">
            <p:oleObj progId="Excel.Sheet.12" r:id="rId1" spid="">
              <p:embed/>
              <p:pic>
                <p:nvPicPr>
                  <p:cNvPr id="216" name="Object 1060" descr=""/>
                  <p:cNvPicPr/>
                  <p:nvPr/>
                </p:nvPicPr>
                <p:blipFill>
                  <a:blip r:embed="rId2"/>
                  <a:stretch/>
                </p:blipFill>
                <p:spPr>
                  <a:xfrm>
                    <a:off x="393840" y="914400"/>
                    <a:ext cx="6057720" cy="5842080"/>
                  </a:xfrm>
                  <a:prstGeom prst="rect">
                    <a:avLst/>
                  </a:prstGeom>
                  <a:ln w="0">
                    <a:noFill/>
                  </a:ln>
                </p:spPr>
              </p:pic>
            </p:oleObj>
          </a:graphicData>
        </a:graphic>
      </p:graphicFrame>
      <p:sp>
        <p:nvSpPr>
          <p:cNvPr id="217" name="Rectangle 1061"/>
          <p:cNvSpPr/>
          <p:nvPr/>
        </p:nvSpPr>
        <p:spPr>
          <a:xfrm>
            <a:off x="981360" y="490320"/>
            <a:ext cx="48412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1. Блок регистров специальных функций</a:t>
            </a:r>
            <a:endParaRPr b="0" lang="en-US" sz="1600" spc="-1" strike="noStrike">
              <a:solidFill>
                <a:srgbClr val="000000"/>
              </a:solidFill>
              <a:latin typeface="Arial"/>
            </a:endParaRPr>
          </a:p>
        </p:txBody>
      </p:sp>
      <p:sp>
        <p:nvSpPr>
          <p:cNvPr id="218" name="Rectangle 1069"/>
          <p:cNvSpPr/>
          <p:nvPr/>
        </p:nvSpPr>
        <p:spPr>
          <a:xfrm>
            <a:off x="6588000" y="1052640"/>
            <a:ext cx="2232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ы, имен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торых  отмечены   знаком (*), допускаю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дресаци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дельных битов. </a:t>
            </a:r>
            <a:endParaRPr b="0" lang="en-US" sz="16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6:38Z</dcterms:modified>
  <cp:revision>105</cp:revision>
  <dc:subject/>
  <dc:title>Микропроцессорные системы</dc:title>
</cp:coreProperties>
</file>